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C19-4694-4B24-9B39-09509DA4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4C1-7C75-4402-8270-56564436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7BE-5E78-4CD8-9912-CAABF058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7F0-ED95-4323-9B5A-D8095EAA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6693-E9BC-4433-AE3C-B37681F6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1B41-7DBA-42B1-86A9-08AB3746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429B-089F-4EB5-825D-E745D916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55DE-9A09-4CB7-82C6-C4B20312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BFC4-F8F1-49D0-A5EE-77DC609E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AF33-EE27-4973-B3FD-063D7F84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83F0-25D2-4AA5-B58E-794E9821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11E-60C1-4FB7-9C5C-445067A3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4742-6096-45CB-B673-0CF62F73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3612-AE31-470D-B486-EFD89E8B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466D-A333-4C6B-BB5E-38F2C32F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4420-1904-40B1-9FE3-CAA8769F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FCD7-4E0E-47FF-A16D-626A4EA7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C58-3961-4644-BDB6-BCD1668B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46B-C5D0-42B4-9057-AC19B776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127-FDE8-4153-A29C-46218703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640B-4542-47E4-A089-3A0E6A76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8E1-3108-4AC0-B8B7-B29C356E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4745-51EF-4398-8E5B-76FFFF53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4C9-A58D-454C-8475-1B8C4F54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E17F-9B0A-4960-B564-0B2B6D949AD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D2F8-7918-4BA8-9D24-CE6A530007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rs. McCall’s Rules to a Happier Classroom. </a:t>
            </a:r>
            <a:r>
              <a:rPr b="1" lang="en-US" sz="36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y job is to teach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Your job is to learn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ul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ust be in your seat, ready to begin working on the board assignment when the bell ring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ule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ust have proper materials (books, pencils, paper, etc) Any homework assignments are due at the beginning of the period to the top tr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ule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ain silence during silent work perio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ule 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en at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7:00:07Z</dcterms:created>
  <dc:creator>rebecca</dc:creator>
  <dc:description/>
  <dc:language>en-US</dc:language>
  <cp:lastModifiedBy>rebecca</cp:lastModifiedBy>
  <dcterms:modified xsi:type="dcterms:W3CDTF">2009-05-15T17:40:43Z</dcterms:modified>
  <cp:revision>2</cp:revision>
  <dc:subject/>
  <dc:title>Mrs. McCall’s Rules to a Happier Classroom. </dc:title>
</cp:coreProperties>
</file>